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47CB-8F53-416C-B5A0-CBB6AD9D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90EDD-5C6C-482F-990A-8471D182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51C2-4477-4589-ACD5-3CFBB877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BEC9-67DC-4DF9-8E05-7A7EA624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A609-630F-457F-ACE9-2E294A96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D503-C68D-4435-9FDB-8F7BDC0A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5FE7-86A8-44C4-8A71-857BD84F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0E5D-7942-4D76-AF25-E36EDD1F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84B1-2909-410B-A0E7-1FAE35F2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EE92-85C9-446C-A734-498B4B08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5D57-6D60-410C-BC9D-54C9C330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AE4A-E373-4768-9E2D-8D27B546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3FF1-B47F-497E-BFDD-B7A4E12C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B7ED-428B-471A-8B44-899F684A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B5A9-1294-4D47-82F5-D3D644B5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5C2D-A959-4758-A705-EB4CD43C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EC6C-E3A1-4B52-BF27-BD9A27A4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2773-F3A0-464F-8701-B0DAA365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6FCA-33D6-4098-B7AE-0E783BEC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EE18-1261-4F0B-AC56-C492930D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AB05-698D-4464-A430-BF1A513C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1D14-7D27-4233-A5C6-743F42A0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C791-3636-4E24-B0AF-C2FD41D1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39EC-E0E5-4178-A02D-48A4ABC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4C34-20F5-4FA3-B38B-5673639EEA8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8056-CDCF-4602-A945-2202102EED8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19480"/>
            <a:ext cx="957744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  <a:ea typeface="Arial"/>
              </a:rPr>
              <a:t>193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3000" spc="-1" strike="noStrike">
                <a:solidFill>
                  <a:srgbClr val="ffffff"/>
                </a:solidFill>
                <a:latin typeface="Arial"/>
                <a:ea typeface="Arial"/>
              </a:rPr>
              <a:t>457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Кой в Христа спасение има, щастие е намерил той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есден Божи мир прием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и сърце му е в покой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614240"/>
            <a:ext cx="957744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2. Ходейки из пътя тесен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ръководен от Христа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пее той на Бога песен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дава плод, а не листа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621080"/>
            <a:ext cx="9577440" cy="33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3. О, живот блажен е този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и свободен е от грях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Кой го има, у тогози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се е радост, песни, смях!</a:t>
            </a:r>
            <a:r>
              <a:rPr b="0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5:23:31Z</dcterms:modified>
  <cp:revision>127</cp:revision>
  <dc:subject/>
  <dc:title>Slide 1</dc:title>
</cp:coreProperties>
</file>